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D232-9F9E-43DD-99D8-0191CA0FE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276F-381A-4D33-B96B-696365C6F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3F1D-4931-4815-8461-46766D27B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37F6-4CFF-4AC3-B777-1A3D4FFC9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7B99-B9FB-4159-B107-4BDDF5A43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6487-066E-4000-8004-38C3B8A4D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0C8C-478B-45B5-B9C0-A01024B32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F2DF-7B49-4064-9F4A-9562B7DF4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BD83-2849-4802-9FC3-2491B3F6D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C6FB-B2B3-465D-A1CA-D5FC430B6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80F5-4B41-45D1-9EAA-4CA861002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DF41-4FAF-4036-A7EA-3C6909016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90FC-EA80-4F31-8D20-B0D4913FD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B6D9-7813-45B4-B896-F084C35D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4A0-DA42-4120-BA47-10207FAD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830-BE7A-41D8-8EEF-E6445DA1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0772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756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0772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756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DDE-4477-49C6-A3A3-76BC8E37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716292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DEA-D733-4E6A-8393-0CDBA22D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0772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8756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0772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8756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895-C02B-4A6B-8BC0-C4E15BB8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15C-8375-4FD2-9BE5-A34C74BE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64F-5530-4EED-9C96-7E909D8A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7162920" cy="49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81D-2907-475B-8E9A-126C0B76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804-A6E1-46A0-AC66-83B14D3B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904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D93-151F-44A9-8FD7-3F19434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904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91212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A4A-1F8F-43B2-BE06-B5420B80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073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250"/>
              </a:spcBef>
              <a:buClr>
                <a:srgbClr val="0065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1" marL="668160" indent="-287280">
              <a:spcBef>
                <a:spcPts val="1250"/>
              </a:spcBef>
              <a:buClr>
                <a:srgbClr val="00650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2" marL="1049400" indent="-190440">
              <a:spcBef>
                <a:spcPts val="1250"/>
              </a:spcBef>
              <a:buClr>
                <a:srgbClr val="006501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3" marL="1430280" indent="-190440">
              <a:spcBef>
                <a:spcPts val="1250"/>
              </a:spcBef>
              <a:buClr>
                <a:srgbClr val="0065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4" marL="1811160" indent="-190440">
              <a:spcBef>
                <a:spcPts val="1250"/>
              </a:spcBef>
              <a:buClr>
                <a:srgbClr val="00650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5" marL="1811160" indent="-19044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  <a:p>
            <a:pPr lvl="6" marL="1811160" indent="-190440"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50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955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C1A2-0454-40C4-9413-DE3EB58F50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676160"/>
            <a:ext cx="7197480" cy="1066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5251320"/>
            <a:ext cx="7197480" cy="540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50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501"/>
                </a:solidFill>
                <a:latin typeface="Arial"/>
              </a:rPr>
              <a:t>&lt;date/time&gt;</a:t>
            </a:r>
            <a:r>
              <a:rPr b="1" lang="en-US" sz="1200" spc="-1" strike="noStrike">
                <a:solidFill>
                  <a:srgbClr val="006501"/>
                </a:solidFill>
                <a:latin typeface="Arial"/>
              </a:rPr>
              <a:t>Thursday 16th Septem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3520" y="1676520"/>
            <a:ext cx="719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ecti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971800"/>
            <a:ext cx="719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Site Protection Officer</a:t>
            </a:r>
            <a:br>
              <a:rPr sz="3600"/>
            </a:br>
            <a:r>
              <a:rPr b="1" lang="en-GB" sz="3600" spc="-1" strike="noStrike">
                <a:solidFill>
                  <a:srgbClr val="009999"/>
                </a:solidFill>
                <a:latin typeface="Arial"/>
              </a:rPr>
              <a:t>Recrui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221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election Event Progr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531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</a:t>
            </a: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AFETY BRIEF FOR AERIAL TOWER C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440" y="2293920"/>
            <a:ext cx="598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hanges of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centrate on rounds and landings of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5800" y="2997360"/>
            <a:ext cx="725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al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Maintain a hold of the handrails at all times, do not lean over handrails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800" y="4653000"/>
            <a:ext cx="702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SCU (UK) AP staff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800" y="3949560"/>
            <a:ext cx="70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limb the ladder at a comfortable pace, no rus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5800" y="5621400"/>
            <a:ext cx="702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2040" y="17928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92000" y="1447920"/>
            <a:ext cx="57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9120" y="2104920"/>
            <a:ext cx="65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equired to carry a person of similar physical st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9200" y="2590920"/>
            <a:ext cx="719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Not a timed event. Do not run. Walk in a safe manner. Maintain your balance. Be mindful of colleague at all ti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7632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9200" y="3733920"/>
            <a:ext cx="695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SCU (UK) AP sta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9200" y="5105520"/>
            <a:ext cx="7162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2400" y="1384200"/>
            <a:ext cx="87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B.A TRAINING POD CRA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1280" y="2943360"/>
            <a:ext cx="592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wearer of B.A requires assistance, call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 SCU (UK) AP member of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9200" y="3781440"/>
            <a:ext cx="544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hanges of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changes of level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teps into B.A p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Open manholes (feel for opening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9200" y="2133720"/>
            <a:ext cx="826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.A procedure Tech Bulletin 1/97 will be adhered to as a ‘safe system of work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74520"/>
            <a:ext cx="548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00" y="518148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531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PLANT A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3320" y="2276640"/>
            <a:ext cx="439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hanges of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centrate on steps and lan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5120" y="2943360"/>
            <a:ext cx="528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al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Maintain a hold of the handrails at all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080" y="4367160"/>
            <a:ext cx="64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ll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274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 individual feels unwell inform a safety officer / Instructor immedi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520" y="3664080"/>
            <a:ext cx="492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o not run up or down stairs, brisk w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080" y="5334120"/>
            <a:ext cx="672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3204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01800" y="144792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CLARIFICATION OF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44800" y="4005360"/>
            <a:ext cx="292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Arial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270160"/>
            <a:ext cx="86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7880" indent="-407880">
              <a:lnSpc>
                <a:spcPct val="10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Health and fit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07880" indent="-407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s everyone fit and well (positive response required by all participants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3204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049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99"/>
                </a:solidFill>
                <a:latin typeface="Arial Black"/>
              </a:rPr>
              <a:t>Staff Intro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708280"/>
            <a:ext cx="8991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Stn / Command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3645000"/>
            <a:ext cx="8388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Stn / Command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HR Advisor          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9999"/>
                </a:solidFill>
                <a:latin typeface="Arial Black"/>
              </a:rPr>
              <a:t>SPO Selection Event Programme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28280"/>
            <a:ext cx="838224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815     Site Induction – Visitors Induction Centre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830     Briefing re. programme for the da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00     Physical tests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ncluding Health &amp; Safety risk assessments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ncluding refreshment breaks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145     Lunch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230     Physicals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550     View AP Promotional video &amp; VMDS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lvl="1" marL="1428840">
              <a:lnSpc>
                <a:spcPct val="90000"/>
              </a:lnSpc>
              <a:spcBef>
                <a:spcPts val="876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CD Rom (*optional)</a:t>
            </a:r>
            <a:endParaRPr b="0" lang="en-US" sz="14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600     Debrief day’s events / what next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615     Close.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00 – 0915      Change in to fire kit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0915 – 1030      Hose running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030 – 1100      Ladder Extension 10.5m  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100 – 1145      Ascend &amp; descend aerial tower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200 – 1300      * BA training pod crawl 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08080"/>
                </a:solidFill>
                <a:uFillTx/>
                <a:latin typeface="Arial"/>
              </a:rPr>
              <a:t>Lunch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400 –1445         Casualty Carr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1445 – 1545      * Ascend &amp; descend Process Plant in BA (Heat &amp; Humidity)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-190440">
              <a:spcBef>
                <a:spcPts val="10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* Breaks built in to programme / times </a:t>
            </a:r>
            <a:r>
              <a:rPr b="0" lang="en-GB" sz="1600" spc="-1" strike="noStrike" u="sng">
                <a:solidFill>
                  <a:srgbClr val="808080"/>
                </a:solidFill>
                <a:uFillTx/>
                <a:latin typeface="Arial"/>
              </a:rPr>
              <a:t>may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 vary</a:t>
            </a: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  <a:p>
            <a:pPr marL="190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501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388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4360" y="1916280"/>
          <a:ext cx="7643520" cy="2939760"/>
        </p:xfrm>
        <a:graphic>
          <a:graphicData uri="http://schemas.openxmlformats.org/drawingml/2006/table">
            <a:tbl>
              <a:tblPr/>
              <a:tblGrid>
                <a:gridCol w="3951000"/>
                <a:gridCol w="3692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793880" y="7632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76240" y="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9600" y="2133720"/>
            <a:ext cx="86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Manual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ctivities undertaken at a comfortable pace with Kinetic handling  carried out at all time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. Use the large muscle groups whilst lifting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680" y="3247920"/>
            <a:ext cx="852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s, trips and f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ctivities undertaken at a reasonable pace, quick walk (observe surrounding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46800" y="4390920"/>
            <a:ext cx="50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Cuts, Abra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gloves to be worn at all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62360" y="5200560"/>
            <a:ext cx="58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No Jewellery To Be Worn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ings / Neck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W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iercing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15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GENERAL SAFETY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76240" y="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133720"/>
            <a:ext cx="80769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Personal Protective Equipment</a:t>
            </a:r>
            <a:br>
              <a:rPr sz="2000"/>
            </a:b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ull fire kit (in operational condition) to be worn at all times inclu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Hel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tu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legg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boots/safety footwear (good 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glo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kit worn for all practical assess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e kit can be issued if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66600" y="5421240"/>
            <a:ext cx="564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Report all injuries to SCU (UK) AP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40000" y="1592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GENERAL SAFETY 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46160" y="1531800"/>
            <a:ext cx="70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HOSE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56160" y="2440080"/>
            <a:ext cx="606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riction Burn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lways have arms covered, gloves wor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19716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, Trips and Fall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tripping over hose whilst running out Undertake hose running with due care for others, a time limit is set, however carry out task with safety in m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583160"/>
            <a:ext cx="772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 / Un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one feels any physical injury, pulled muscle, fa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form a SCU (UK) AP member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5944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2040" y="0"/>
            <a:ext cx="555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76080" y="153180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SPECIFIC SAFETY BRIEF FOR LADDER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00" y="2247840"/>
            <a:ext cx="670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riction Burn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lways have arms covered, gloves to be worn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098880"/>
            <a:ext cx="746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Slip, Trips and Falls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Be cautious of tripping over ladder extension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680" y="4695840"/>
            <a:ext cx="672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Injuries / Un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f anyone feels any physical injury, pulled muscle, fa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form a SCU (UK) AP member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82300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2440" indent="-35244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Drink water as required to replenish lost body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2040" y="106200"/>
            <a:ext cx="555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SPO Selection Event Programm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2960" y="3908520"/>
            <a:ext cx="65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Firm grip of extension line required, using upper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0:33:46Z</dcterms:created>
  <dc:creator>Simon Houliston</dc:creator>
  <dc:description/>
  <dc:language>en-US</dc:language>
  <cp:lastModifiedBy>gpidgeon</cp:lastModifiedBy>
  <cp:lastPrinted>2004-11-25T16:42:46Z</cp:lastPrinted>
  <dcterms:modified xsi:type="dcterms:W3CDTF">2007-06-14T15:29:16Z</dcterms:modified>
  <cp:revision>81</cp:revision>
  <dc:subject/>
  <dc:title>PowerPoint Presentation</dc:title>
</cp:coreProperties>
</file>